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2092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40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412092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40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324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080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324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owerpointinsideal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" name="Text Box 14"/>
          <p:cNvSpPr/>
          <p:nvPr/>
        </p:nvSpPr>
        <p:spPr>
          <a:xfrm>
            <a:off x="7667640" y="6491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DB91-D3AB-4332-8642-391F11C66D22}" type="slidenum">
              <a:rPr b="0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owerpointfro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"/>
          <p:cNvSpPr/>
          <p:nvPr/>
        </p:nvSpPr>
        <p:spPr>
          <a:xfrm>
            <a:off x="685800" y="2349360"/>
            <a:ext cx="7772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371600" y="4627440"/>
            <a:ext cx="6400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d4d4d"/>
                </a:solidFill>
                <a:latin typeface="Verdana"/>
              </a:rPr>
              <a:t>NG Strawman – Ofgem Respons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52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view of Emergency Claims Arrangements, 16 March 2009</a:t>
            </a:r>
            <a:endParaRPr b="0" lang="en-US" sz="24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Verdana"/>
              </a:rPr>
              <a:t>Issues to Conside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0800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Should there be a deadline for placing offers on the OCM?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s there an incentive to wait until the end of the day to place off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When would claims be submitted and paid?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ight the three month cost recovery process deter shippers from sourcing additional ga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On what basis are claims assessed?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 single model (FSC, Black Start, Network Code Modification Proposals) upon which to base 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hould claimants be paid for losses incurred or according to a “market value” of ga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commend a working group is established to develop proposal/guidel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092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Verdana"/>
              </a:rPr>
              <a:t>Issues to Conside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3572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How will the costs of emergency claims be calculated?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ould offers on the OCM be adjusted by the frozen SAP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Should short shippers be targeted with the marginal or average cost of validated claims?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hat is appropriate level of incentiv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48:02Z</dcterms:created>
  <dc:creator>amos</dc:creator>
  <dc:description/>
  <dc:language>en-US</dc:language>
  <cp:lastModifiedBy>woodsideb</cp:lastModifiedBy>
  <dcterms:modified xsi:type="dcterms:W3CDTF">2009-03-12T17:24:01Z</dcterms:modified>
  <cp:revision>26</cp:revision>
  <dc:subject>Gas Emergency Cash-Out Current Status</dc:subject>
  <dc:title>Gas Emergency Cash-Out Curren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Presentation</vt:lpwstr>
  </property>
  <property fmtid="{D5CDD505-2E9C-101B-9397-08002B2CF9AE}" pid="3" name="ContentTypeId">
    <vt:lpwstr>0x010100B1FDB44E637B184D819A660F8226561600032A4122690B614BB562227834C2B654</vt:lpwstr>
  </property>
</Properties>
</file>